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9FDB-BB1A-4E58-A88A-D0E6425747C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55D7-10B5-4C94-9D22-3D0F83450A40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2B5F-11BF-4FC9-9A85-E80621726CA4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D3D-1B36-41E4-9487-BFA5A244603D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BA0A-5E5C-49E2-8F5B-EFC5FF82492A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6695-47E5-41A3-991F-6910512E5E15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B6F1-B8F3-48C9-91C6-DD69ED8C42D3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3044-48FA-4440-8C9D-7CD96ABDDE90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AB2-D54F-4353-9C6F-E113E661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085-3A84-48DC-986D-6C8E490C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1AD06-E56B-4FB5-BF50-BF98B9F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B394B-3875-4048-A667-36FD3D7D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18CC2-9267-4D69-9E56-D2CA0E2C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48F2C-0FDC-4C70-81F2-C977DE1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D3D5B-4101-4A89-AAFC-0118AEF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3C34F-DC8D-4D86-BDB8-C9D375C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7EF83-DD40-4F6C-AB0C-788ACA2E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B990F-0991-4E64-A4A8-4D518950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52673-879F-4FA7-8005-FA3465F1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D980D-9600-4D2B-A0A4-B19F274F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9FD-89D5-44D0-B689-6DD97819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B3BD8-A797-4FFE-92F8-7F76FED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BD73A-B784-41E0-8E53-9DC1EE2D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FFC7C-A189-40DE-9D2B-901CEFB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64562-07F0-49E5-B1A3-431CFEAD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3732E-59B3-43CF-98F7-8754F023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46D6B-55D6-49D9-AE79-562FB87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338E5-3725-4C0B-8B61-7FD601A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9B33E-9BB9-4BA9-BF30-300D6B3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05E9E-CC48-4640-AFE6-9523B82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A6E40-8076-4667-8AA7-196EEF09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54A-5F4A-454F-86AB-15601B5D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7ECC1-2B62-49C6-8C7C-E633F920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FA2E2-8C98-451A-BE08-A632BC9C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7F742-0292-45A2-B8AA-ED155FA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46ECC-C45A-406B-AA19-322C126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BAF3E-BDAA-4020-881C-BB00F73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F9F01-6300-4C9F-BD53-72ED8757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3BE07-39A4-47F9-9845-31B4F17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C0B1-0F5D-4E02-B02F-6EE003CE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1EBD6-AB2C-469E-89E7-728EC2D2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C30E5-BECB-435C-9D7E-CD3D9B4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5EBE-F0DF-454C-AEB3-17552FB2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21FC3-4F51-4D69-B1D3-FBC1B06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CD66B-C630-4729-A1BB-7FD6E7EB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91CCC-A838-4F91-8063-B41C119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977CD-2883-4654-A9C5-0F5BD515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8028-4FCD-4AD6-8858-0ADAAA6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21410-EC87-4EBF-9C61-47B602A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55E3E-F524-4BE7-A8F2-E5E38774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44666-90AD-4F8D-A436-C738CCFE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D2D1A-6429-4F10-A440-14D263D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C2B97-D411-45B3-B1B2-F365370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2240-C0D7-4095-871A-08D22DD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31EB5-DB60-468D-88B5-1748411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D133-5A56-47EC-817D-EA2042A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40BF0-8713-4F41-954B-1B467785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61E22-973C-4DC7-965E-1AA14BB2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F8D74-96F3-4678-97AC-F9D04438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538E-8522-4A48-ADA1-7C01340C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6890-B687-421C-800A-F05A7A1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9141-DF98-4C72-A512-D9975D0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846B-3FC4-46FD-B9F1-8B002A45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8147-B443-4DA7-842B-44BB040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AFD-8AB3-4830-BFB7-BBCDA5B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DF3-316E-4865-9F6A-9688449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395-F8BD-41FB-A2D4-F62601B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B348-FC63-4879-8C43-15638074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58C6-0BEB-469D-828F-A0867D90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AF09-EA5B-4966-87B8-BD678DD7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5003-5E29-4DF2-8C2A-0C89B54F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0BAD-3B2F-40CD-9656-7039DA8E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15DC-4D05-4A93-A27D-4CA1CC4B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7F7A-F26E-4306-983D-0C21CC6E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70F5-25A9-465C-9722-15B34C4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F66-78A0-4B51-A1A1-FDE1E95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C851-A911-4E54-AFC5-A080152A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7AC4-5890-4B52-BA87-7CAFD30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19C4-1B12-4514-8321-A9832BE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56D2-BDB6-4EE7-B9FA-E6B2F7F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F99B-9AF6-452A-BD72-4CEEA8B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6E49-2D44-4C0A-B1BE-8BFC16A9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2A46-AF58-4ECD-A374-EA4A314D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4D3F-6DDD-44FF-9512-F2D7F03A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3E11-14BF-45F6-A7C4-932828A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414A-C403-47F9-86DE-0F5BB589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6C8-927D-437A-8329-29929305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7D26-38D2-4BF4-AC29-C5EE34C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A919-1A0A-48CB-91A2-B1A50EC2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87CC-4515-456B-A811-90EAF106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EA69-EF7F-4CAF-89DD-EE04C2F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17E2-9938-4A03-B9D2-FFD1F12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D515-593F-406B-9047-ECB4469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07FD-97B0-4F1C-9D44-516CF719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D2C6-60A0-47F0-89B1-BAA02F35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08A8-B24A-451D-A721-B76F6D61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9CF1-EDA6-45BA-9D65-A9A42B88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31F-1CC8-4176-8B36-B7F880A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B855-17B4-4598-A970-C69F99C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218D-2EDD-40B8-9CB4-46172E2F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E53B-D987-4CBE-BAEB-2AA39F7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2653-BC5A-4B13-90F5-670326E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A58F-220C-4BE1-863F-8530D65F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8B2C-078E-4210-8A4D-3D164DA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C384-4BB5-4DB3-9A8D-9EE12BE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0BF54-ACFC-4038-A970-C242104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7268-3E75-4BD4-A7D2-06CDE0C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ED13-F481-4944-86A2-94F2A362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08E-FAFE-4B5F-84AF-3C254DAB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D632-1733-44A6-BDC0-C0E87DE3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A6D8-5775-43FE-A05A-1515102B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73FE-8875-41E5-A3FC-ED7677F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9E92-A908-49E6-99E5-EC9AEFD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6B865-0D79-437C-B91D-9B2DD481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8071A-7074-4AB1-9BBD-A60C4BC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73C86-0343-424E-B453-E8C8EA3C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D4D46-79A2-457F-8796-AA832A2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EA44-B5A1-4EE7-9A58-7374710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77A53-14AD-4166-9FEF-C5B58FC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6A9-0EB7-40BF-9692-94639E0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B1388-3AD3-4450-B7D3-056EFDC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D1FF6-860E-4891-97A3-3896CE05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4C001-1552-4BDD-9A65-143A3F8E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6E92-2B25-4962-98AB-86DFD3D8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24C7-5595-4828-89DE-6E66B897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4D72-D544-4236-9F10-ABAB1984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EB0A6-9994-48AF-806C-41600D1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8791-6B94-439B-AA40-1B280F90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B9E68-8CAB-4B49-B7E9-A929B048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D1237-6A1E-4B47-BB68-728E7F9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102-A5CE-4BE4-BFCC-CB5CBA6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5E95-CAE1-401A-8EFA-72E0AEB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8CC33-18D1-4103-A6EB-CC2FF41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BA063-7ADC-4129-95A5-D441334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C2FB-901C-4319-AC6C-B752F8E7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1BD53-D381-4C9A-BBAD-1DBB8CB3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FB6F6-6E3F-417D-8AEB-14A9042B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4E7CF-4EA6-4AA1-9C37-A6A3EA76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7DBC-5AE7-4014-AFB6-2735F08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BB5FF-D6C3-4FE9-95E9-534807C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BA2A-FBF8-46A7-A131-85C8750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745-B0AC-4EB5-A160-EEA888AF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F9C15-64BC-4A10-90EE-4DBC1204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9C04E-A3EB-4F07-B99D-857A678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5AA6-720D-4A3B-9AA8-C306DCF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A45C-EBAC-49A9-92F0-186126E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5D59-2C52-464B-8809-EA2587D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FB2B1-F995-4818-9706-54B9848F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F840-52B0-42B4-811E-83BAA00B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AB470-99D8-465B-94D6-2BD91540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88BBB-D828-49AD-B5CB-F40758A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585A7-6417-4325-9137-56B091A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4374-C6DE-4FC8-BA82-1B74BAA74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6576-206D-4673-AE9B-06633E78C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85A-C93C-4DD5-808B-B0B32B5F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C00B-B23C-41F9-B20F-7FEA93C7E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2EDC-E62A-46A7-A06B-61B604250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6B57-CD12-45A1-942A-576E41411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C09-F976-4AD6-9F86-682A9FBAD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EBF5-3254-42F7-8B59-06AFDAD69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21D-6272-4C88-A581-E6720C2CB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6C8-EA5B-43E5-822A-590C82A2A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15C-9399-459A-8467-D21DDB69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953-9B66-4FA4-A29D-C165E03A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führ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1" name="Grafik 4" descr="OEVSV-WMF.wmf"/>
          <p:cNvPicPr/>
          <p:nvPr/>
        </p:nvPicPr>
        <p:blipFill>
          <a:blip r:embed="rId1"/>
          <a:stretch/>
        </p:blipFill>
        <p:spPr>
          <a:xfrm>
            <a:off x="357120" y="3500280"/>
            <a:ext cx="1082880" cy="2448000"/>
          </a:xfrm>
          <a:prstGeom prst="rect">
            <a:avLst/>
          </a:prstGeom>
          <a:ln w="0">
            <a:noFill/>
          </a:ln>
        </p:spPr>
      </p:pic>
      <p:pic>
        <p:nvPicPr>
          <p:cNvPr id="502" name="Grafik 5" descr="ARENA-WMF.wmf"/>
          <p:cNvPicPr/>
          <p:nvPr/>
        </p:nvPicPr>
        <p:blipFill>
          <a:blip r:embed="rId2"/>
          <a:stretch/>
        </p:blipFill>
        <p:spPr>
          <a:xfrm>
            <a:off x="7715160" y="3643200"/>
            <a:ext cx="9763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as ist Airmail 2000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Datentransferprogramm  für  den (Amateur) Fu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Terminal Programm  (KB zu KB und KB zu BB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autonomes  E-Mail Progra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Host-Interface zu Outlook (Expr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Programm für Airmail zu Airmail Kommunik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Client Programm für Winlink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irmail2000 ist eine Nachrichtendrehscheib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chteck 1"/>
          <p:cNvSpPr/>
          <p:nvPr/>
        </p:nvSpPr>
        <p:spPr>
          <a:xfrm>
            <a:off x="3786120" y="3365640"/>
            <a:ext cx="1629000" cy="16300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8edf2"/>
                </a:solidFill>
                <a:latin typeface="Arial"/>
                <a:ea typeface="Arial"/>
              </a:rPr>
              <a:t>AIRMA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8edf2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8edf2"/>
                </a:solidFill>
                <a:latin typeface="Arial"/>
                <a:ea typeface="Arial"/>
              </a:rPr>
              <a:t>Mod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bgerundetes Rechteck 2"/>
          <p:cNvSpPr/>
          <p:nvPr/>
        </p:nvSpPr>
        <p:spPr>
          <a:xfrm>
            <a:off x="3929040" y="1722600"/>
            <a:ext cx="13431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HF-TERM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Winl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HAM, Notf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bgerundetes Rechteck 3"/>
          <p:cNvSpPr/>
          <p:nvPr/>
        </p:nvSpPr>
        <p:spPr>
          <a:xfrm>
            <a:off x="3929040" y="5724360"/>
            <a:ext cx="13431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WEFA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GETFA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bgerundetes Rechteck 4"/>
          <p:cNvSpPr/>
          <p:nvPr/>
        </p:nvSpPr>
        <p:spPr>
          <a:xfrm>
            <a:off x="6600960" y="3722760"/>
            <a:ext cx="141444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MAIL CLI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Internet E-Mail  via IS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bgerundetes Rechteck 5"/>
          <p:cNvSpPr/>
          <p:nvPr/>
        </p:nvSpPr>
        <p:spPr>
          <a:xfrm>
            <a:off x="1314360" y="3722760"/>
            <a:ext cx="142884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ITS-H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bgerundetes Rechteck 6"/>
          <p:cNvSpPr/>
          <p:nvPr/>
        </p:nvSpPr>
        <p:spPr>
          <a:xfrm>
            <a:off x="5958000" y="2222640"/>
            <a:ext cx="1342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INTERNET ACCES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inlink via Telne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bgerundetes Rechteck 7"/>
          <p:cNvSpPr/>
          <p:nvPr/>
        </p:nvSpPr>
        <p:spPr>
          <a:xfrm>
            <a:off x="1886040" y="2222640"/>
            <a:ext cx="1342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ACK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Client &amp; Server TelPac Winl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bgerundetes Rechteck 8"/>
          <p:cNvSpPr/>
          <p:nvPr/>
        </p:nvSpPr>
        <p:spPr>
          <a:xfrm>
            <a:off x="1886040" y="5224320"/>
            <a:ext cx="1342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OSITION-REPOR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Wetterberich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Bulleti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bgerundetes Rechteck 9"/>
          <p:cNvSpPr/>
          <p:nvPr/>
        </p:nvSpPr>
        <p:spPr>
          <a:xfrm>
            <a:off x="6029280" y="5224320"/>
            <a:ext cx="13431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MAIL SER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SMTP/POP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LAN WL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Outloo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feld 11"/>
          <p:cNvSpPr/>
          <p:nvPr/>
        </p:nvSpPr>
        <p:spPr>
          <a:xfrm>
            <a:off x="8184240" y="642924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© OE3Z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Textfeld 13"/>
          <p:cNvSpPr/>
          <p:nvPr/>
        </p:nvSpPr>
        <p:spPr>
          <a:xfrm>
            <a:off x="3071880" y="428760"/>
            <a:ext cx="32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Die Voraussetzungen für Airmail sind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n95, 98, ME, NT4.0, Win-2000, Win-XP, VIS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ür HF &amp; VHF ein Pactor/Packet Modem (TNC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z.B.: SCS PTC-II, IIe, IIusb, IIex, IInet, IIpro oder TRXPT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ür VHF/UHF Packet Z.B.: KPC3, KPC3+, Kam98, Kam+, PK232,PK900,DSP232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und Karten und AGWPE wird dzt. nicht direkt unterstützt - es gibt aber eine Lösung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irmail to AGW packet engine link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ttp://www.qsl.net/mararc/ampe.ht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mail darf  von Funkamateuren auf den Amateurfrequenze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ostenlo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wendet werde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mail wird auch von kommerziellen Diensten wie, z.B. Sailmail, Bushmail etc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ostenpflichti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ütz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Mail  Copyright ©1997-2007 by Jim Corenman, KE6RK, and Sirius Cybernetics LLC, P.O. Box 2143, Friday Harbor, WA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Programm ist USB-Stick portab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:  http://www.airmail2000.c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42960" y="17859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ine deutsche Installations- und Bedienungsanleitung findet man im Web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www.oe3.oevsv.at/opencms/notfunk/Download/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irmail wird für den Notfunk allmählich d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acLinkMP abgelö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23" name="Picture 8" descr="nochFragen"/>
          <p:cNvPicPr/>
          <p:nvPr/>
        </p:nvPicPr>
        <p:blipFill>
          <a:blip r:embed="rId1"/>
          <a:stretch/>
        </p:blipFill>
        <p:spPr>
          <a:xfrm>
            <a:off x="2428920" y="1785960"/>
            <a:ext cx="4106880" cy="40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4" name="Textfeld 4"/>
          <p:cNvSpPr/>
          <p:nvPr/>
        </p:nvSpPr>
        <p:spPr>
          <a:xfrm>
            <a:off x="6250320" y="614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....und nun zur Prax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3:02:07Z</dcterms:created>
  <dc:creator>Gerhard Kmet</dc:creator>
  <dc:description/>
  <dc:language>en-US</dc:language>
  <cp:lastModifiedBy>Gerhard Kmet</cp:lastModifiedBy>
  <dcterms:modified xsi:type="dcterms:W3CDTF">2008-04-15T10:08:29Z</dcterms:modified>
  <cp:revision>43</cp:revision>
  <dc:subject/>
  <dc:title>Airmail2000 </dc:title>
</cp:coreProperties>
</file>